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DAB2-941C-409E-9115-825F9F49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ABCF-C1FD-4338-9190-1192707C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3D15-B974-4E77-A353-8385ACDE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0160-0746-48B7-B13C-FAC15C105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ED64-25C2-44AD-BAEF-2FEF625D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C82D-4907-4939-8C23-F7301AC5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7A07-4371-40F4-9694-5B518DCE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E7CA-1151-4FD7-AD0C-416B1F2A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74F4-6D25-4AE2-929F-5BD064B4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58AD-5E25-46BF-8F52-5D297CB1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F956-CC10-4EBE-AC0E-43B18AAE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01F0-610A-4188-A506-5B2A749F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B149-960F-4C90-82B6-086E8EEE311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752480"/>
            <a:ext cx="673416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مثل الإبن الشاطر رح إرجع يا ربي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لعندك يا هالناطر عا دروب المحبة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بقدملك قلبي مثل الإبن الشاطر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وعندك بخلص دربي يا ربي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362320" y="1219320"/>
            <a:ext cx="64483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( </a:t>
            </a: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لا ما بدي الولايم</a:t>
            </a: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،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ولا لبس الخواتم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بدي قلبك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يا ربي يا حبيبي )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41148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4000" spc="-1" strike="noStrike">
                <a:solidFill>
                  <a:srgbClr val="993300"/>
                </a:solidFill>
                <a:latin typeface="Arial"/>
                <a:ea typeface="Simplified Arabic"/>
              </a:rPr>
              <a:t>( </a:t>
            </a:r>
            <a:r>
              <a:rPr b="1" lang="ar-LB" sz="4000" spc="-1" strike="noStrike">
                <a:solidFill>
                  <a:srgbClr val="993300"/>
                </a:solidFill>
                <a:latin typeface="Arial"/>
                <a:ea typeface="Simplified Arabic"/>
              </a:rPr>
              <a:t>2</a:t>
            </a:r>
            <a:r>
              <a:rPr b="1" lang="ar-LB" sz="4000" spc="-1" strike="noStrike">
                <a:solidFill>
                  <a:srgbClr val="993300"/>
                </a:solidFill>
                <a:latin typeface="Arial"/>
                <a:ea typeface="Simplified Arabic"/>
              </a:rPr>
              <a:t>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286000" y="1447920"/>
            <a:ext cx="6324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إغفر ربي بُعدي وانسى لي زلاتي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وحدك ربي قادر تِسرِقني من ذاتي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أعطني حبك دفيني بحنانك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إسقيني نورك تَتشعشع حياتي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362320" y="1219320"/>
            <a:ext cx="64483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( </a:t>
            </a: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لا ما بدي الولايم</a:t>
            </a: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،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ولا لبس الخواتم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بدي قلبك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يا ربي يا حبيبي )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41148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4000" spc="-1" strike="noStrike">
                <a:solidFill>
                  <a:srgbClr val="993300"/>
                </a:solidFill>
                <a:latin typeface="Arial"/>
                <a:ea typeface="Simplified Arabic"/>
              </a:rPr>
              <a:t>( </a:t>
            </a:r>
            <a:r>
              <a:rPr b="1" lang="ar-LB" sz="4000" spc="-1" strike="noStrike">
                <a:solidFill>
                  <a:srgbClr val="993300"/>
                </a:solidFill>
                <a:latin typeface="Arial"/>
                <a:ea typeface="Simplified Arabic"/>
              </a:rPr>
              <a:t>2</a:t>
            </a:r>
            <a:r>
              <a:rPr b="1" lang="ar-LB" sz="4000" spc="-1" strike="noStrike">
                <a:solidFill>
                  <a:srgbClr val="993300"/>
                </a:solidFill>
                <a:latin typeface="Arial"/>
                <a:ea typeface="Simplified Arabic"/>
              </a:rPr>
              <a:t>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11:12:37Z</dcterms:created>
  <dc:creator>bhadad</dc:creator>
  <dc:description/>
  <dc:language>en-US</dc:language>
  <cp:lastModifiedBy>bhadad</cp:lastModifiedBy>
  <dcterms:modified xsi:type="dcterms:W3CDTF">2003-12-02T21:22:45Z</dcterms:modified>
  <cp:revision>6</cp:revision>
  <dc:subject/>
  <dc:title>Slide 1</dc:title>
</cp:coreProperties>
</file>